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FE9C24-8ADA-4ACE-ABEF-50467BE65A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F04FF74-3811-4FA1-B2A2-5DCBC63B71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E2204E6-14C5-4BBC-B081-180335E45B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9497287-CEDD-4F05-ADEC-7B9F964EFF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2585702-7017-4E0C-9263-DD907B5518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A1CB485-8DEC-42C9-93B7-04596E83E6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CB8846F-3E51-4004-9B0E-675669815E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B005C38-434D-4A18-94B5-08A35C0E52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1BB6E32-FCCF-4FB7-99F5-8F6151BF3D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FB76B03-A9F2-40DB-9397-B90F664377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AABB87-2C5A-471E-9042-D66C3E5D40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CDF5C1A-65FB-4641-B6FB-E958E3E0E9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F9B60-5ACA-43B3-B4DD-E3BE0D3519C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章  </a:t>
            </a:r>
            <a:r>
              <a:rPr b="0" lang="zh-CN" sz="4000" spc="-1" strike="noStrike">
                <a:solidFill>
                  <a:srgbClr val="ffffff"/>
                </a:solidFill>
                <a:latin typeface="Verdana"/>
              </a:rPr>
              <a:t>管理的基本</a:t>
            </a:r>
            <a:br>
              <a:rPr sz="4000"/>
            </a:br>
            <a:r>
              <a:rPr b="0" lang="en-US" sz="4000" spc="-1" strike="noStrike">
                <a:solidFill>
                  <a:srgbClr val="ffffff"/>
                </a:solidFill>
                <a:latin typeface="Verdana"/>
              </a:rPr>
              <a:t>          </a:t>
            </a:r>
            <a:r>
              <a:rPr b="0" lang="zh-CN" sz="4000" spc="-1" strike="noStrike">
                <a:solidFill>
                  <a:srgbClr val="ffffff"/>
                </a:solidFill>
                <a:latin typeface="Verdana"/>
              </a:rPr>
              <a:t>理论和原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98728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梅奥人际关系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梅奥对人际关系理论的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梅奥人际关系理论的不足</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人际关系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6"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麦格雷戈的人性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性管理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Y</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麦格雷戈的人性管理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麦格雷戈对人性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麦格雷戈的人性管理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麦格雷戈人性管理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三节 现代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代表性的现代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社会系统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决策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经验主义（或案例）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权变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管理科学学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892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代表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西蒙的管理决策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决策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西蒙管理决策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组织变革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组织变革的模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权变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复杂性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组织再造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学习型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标杆管理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标杆管理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 标杆管理理论的贡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322800" y="404640"/>
            <a:ext cx="5821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四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管理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的概念与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系统的概念</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系统的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系统分类</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系统原理的基本内容</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原理在护理管理中的应用</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8" name=""/>
          <p:cNvSpPr txBox="1"/>
          <p:nvPr/>
        </p:nvSpPr>
        <p:spPr>
          <a:xfrm>
            <a:off x="324000" y="1196640"/>
            <a:ext cx="8610480" cy="5040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本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人是管理活动的主体</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挥人的主观能动性是管理工作的核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注人的发展是人本原理的精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人本原理在护理管理中的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注重知人、用人与育人的有机结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注重人的个性差异，用人所长</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处理好组织中的人际关系，创造和谐、协调的组织环境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动态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动态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07" name=""/>
          <p:cNvSpPr txBox="1"/>
          <p:nvPr/>
        </p:nvSpPr>
        <p:spPr>
          <a:xfrm>
            <a:off x="324000" y="1125000"/>
            <a:ext cx="8610480" cy="5472360"/>
          </a:xfrm>
          <a:prstGeom prst="rect">
            <a:avLst/>
          </a:prstGeom>
          <a:noFill/>
          <a:ln w="0">
            <a:noFill/>
          </a:ln>
        </p:spPr>
        <p:txBody>
          <a:bodyPr anchor="t">
            <a:normAutofit fontScale="90000"/>
          </a:bodyPr>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学习目标</a:t>
            </a:r>
            <a:r>
              <a:rPr b="1" lang="en-US" sz="2400" spc="-1" strike="noStrike">
                <a:solidFill>
                  <a:srgbClr val="8ac8de"/>
                </a:solidFill>
                <a:latin typeface="Verdana"/>
                <a:ea typeface="宋体"/>
              </a:rPr>
              <a:t>】</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识记：</a:t>
            </a:r>
            <a:endParaRPr b="1" lang="en-US" sz="2400" spc="-1" strike="noStrike">
              <a:solidFill>
                <a:srgbClr val="8ac8de"/>
              </a:solidFill>
              <a:latin typeface="Verdana"/>
            </a:endParaRPr>
          </a:p>
          <a:p>
            <a:pPr marL="308520" indent="-308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列举系统、管理原理、能级原理、效益原理、整分合原</a:t>
            </a:r>
            <a:endParaRPr b="1" lang="en-US" sz="2400" spc="-1" strike="noStrike">
              <a:solidFill>
                <a:srgbClr val="8ac8de"/>
              </a:solidFill>
              <a:latin typeface="Verdana"/>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学习型组织的相关概念。</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描述泰勒科学管理理论和法约尔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解：</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解释霍桑实验过程并总结梅奥的人际关系理论内容。</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解释现代管理理论中主要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解释管理的基本原理和原则。</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比较西方早期的管理思想。</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运用：   评估临床管理实际，分析管理原理。</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效益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效益原理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经济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社会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效益原理的基本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效益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04640" y="333000"/>
            <a:ext cx="6039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整分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封闭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能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动力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弹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反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一、竞争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小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学科成为独立的学科之后，管理经历了三个发展阶段：古典管理理论阶段、行为管理理论阶段和现代管理理论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古典管理理论注重管理的科学性、精确性、法理性和纪律性，把管理的对象视为被动的受支配着和理性经济人、机器的附属物，其杰出代表分别是美国的弗雷德里克</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温斯洛</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泰勒的科学管理理论、法国的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法约尔的管理过程理论和德国的马克斯</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韦伯的行政组织理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泰勒的科学管理理论主要内容包括制定工作量定额、选择培训第一流的工人、采用标准化操作、实行差别计件工资制度、主张计划与执行相分离，实行职能管理、提出例外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法约尔的管理过程理论的主要内容概括起来主要有三个方面，即关于企业的经营与管理、关于管理的职能、关于管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韦伯的行政组织理论包括权力论和思想行政组织体系的特点，后者又包括明确的分工、自上而下的等级系统、人员的使用、专业分工与技术训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学习型组织理论是指通过培养弥漫于整个组织的学习气氛、充分发挥员工的创造性思维能力而建立起来的一种有机的、高度柔性的、扁平的、符合人性的、能持续发展的组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系统是由相互依赖、相互作用的各种要素组合而成的，具有特定功能并处于一定环境之中的有机整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管理原理是根据对管理原理的认识和理解而引申出的管理活动中所必须遵循的行为规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24936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6" name=""/>
          <p:cNvSpPr txBox="1"/>
          <p:nvPr/>
        </p:nvSpPr>
        <p:spPr>
          <a:xfrm>
            <a:off x="-360" y="1371600"/>
            <a:ext cx="8915400" cy="4865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能级原理指管理者在组织系统中建立一定的管理层次，设置各管理层次的职责和工作要求，然后按照组织成员的自身特点、能力和素质情况安排岗位，人尽其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效益原理是指在管理工作中要始终不断地追求效益，以最小的资源消耗和代价，获得最佳的社会效果和经济利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1.</a:t>
            </a:r>
            <a:r>
              <a:rPr b="1" lang="zh-CN" sz="2800" spc="-1" strike="noStrike">
                <a:solidFill>
                  <a:srgbClr val="8ac8de"/>
                </a:solidFill>
                <a:latin typeface="Verdana"/>
                <a:ea typeface="宋体"/>
              </a:rPr>
              <a:t>整分合原理是对某项管理工作进行整体把握、科学分解、组织综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一节 古典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制定工作量定额</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选择培训第一流的工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标准化操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实行差别计件工资制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主张计划与执行相分离，实行职能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提出例外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泰勒的追随者对科学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吉尔布雷斯夫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甘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泰勒科学管理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泰勒科学管理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泰勒科学管理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科学管理理论在护理管理中的应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4"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法约尔的管理过程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法约尔管理过程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关于企业的经营与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关于管理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于管理的原则</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916000" y="333000"/>
            <a:ext cx="59655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6"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法约尔管理过程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法约尔管理过程理论的主要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法约尔管理过程理论的不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管理过程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4328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8" name="PlaceHolder 2"/>
          <p:cNvSpPr>
            <a:spLocks noGrp="1"/>
          </p:cNvSpPr>
          <p:nvPr>
            <p:ph/>
          </p:nvPr>
        </p:nvSpPr>
        <p:spPr>
          <a:xfrm>
            <a:off x="324000" y="1196640"/>
            <a:ext cx="8610480" cy="5256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的行政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韦伯行政组织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权力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理想行政组织体系的特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韦伯行政组织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韦伯行政组织理论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韦伯行政组织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行政组织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31640" y="404640"/>
            <a:ext cx="5821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二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行为科学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梅奥的人际关系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霍桑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照明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继电器装配工人小组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大规模访谈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接线板接线工作室的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2"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关系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工人是“社会人”而不是“经济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工人的工作态度以及与周围人的关系是影响工作效率的关键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企业中存在着非正式组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1-12T09:11:40Z</dcterms:modified>
  <cp:revision>25</cp:revision>
  <dc:subject/>
  <dc:title>第二章 管理理论和基本原则</dc:title>
</cp:coreProperties>
</file>